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646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07784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7621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6633"/>
                </a:solidFill>
                <a:latin typeface="Comic Sans MS"/>
                <a:ea typeface="Comic Sans MS"/>
              </a:rPr>
              <a:t>Ma 375 - Communicating Mat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4572000"/>
            <a:ext cx="8229600" cy="167652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  <a:ea typeface="Comic Sans MS"/>
              </a:rPr>
              <a:t>Class 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Comic Sans MS"/>
              </a:rPr>
              <a:t>Going back over som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77120" y="2124000"/>
            <a:ext cx="1736640" cy="170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565440" y="2308320"/>
            <a:ext cx="2603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cc0000"/>
                </a:solidFill>
                <a:latin typeface="Comic Sans MS"/>
                <a:ea typeface="Comic Sans MS"/>
              </a:rPr>
              <a:t>Carl Eberhart  and Paul Ea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4040" y="731880"/>
            <a:ext cx="8234280" cy="2213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In today’s class, we will go back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the  steps in making a book of work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We will also go over the steps i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a latex image of the 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20760" y="76320"/>
            <a:ext cx="7772400" cy="6705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889280" y="593640"/>
            <a:ext cx="662148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Comic Sans MS"/>
              </a:rPr>
              <a:t>Problem:   Make a book of worksheets ou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Comic Sans MS"/>
              </a:rPr>
              <a:t>the first three worksheets in the hand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  <a:ea typeface="Comic Sans MS"/>
              </a:rPr>
              <a:t>for calculus students on the chisel d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889280" y="1965240"/>
            <a:ext cx="69832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1.  copy the worksheets hand1.mws, hand2.mw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and hand3.mws into a directory in chisel\tmp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2.  make a file, say mwsfiles,  containing the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names, one to a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3.  Use mkcontents to make toc.m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perl -S mkcontents tocs.mws mws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4.  Use mkindex.pl to make an index.m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perl -S mkindex  index.mws toc.mws mws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55760" y="365040"/>
            <a:ext cx="7377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  <a:ea typeface="Comic Sans MS"/>
              </a:rPr>
              <a:t>To make a Latex image of the book of workshe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55760" y="974880"/>
            <a:ext cx="771048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1.  Export each worksheet to LaT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2.  Make a file, say texfiles, containing the nam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the worksheets exported to tex, one to a line. 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our case the names would be hand1.tex, hand2.tex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hand3.t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3.  Use mknotes.pl, to make a rootfi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say part1.tex and massage the tex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perl -S mknotes part1.tex tex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4.  For color postscript,  use mkcolor.pl in pla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mknotes.pl, and clreps.pl to recolorize the eps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perl -S mkcolor part1.tex tex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  <a:ea typeface="Comic Sans MS"/>
              </a:rPr>
              <a:t>perl -S clreps part1.tex tex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</dc:creator>
  <dc:description/>
  <dc:language>en-US</dc:language>
  <cp:lastModifiedBy>Carl</cp:lastModifiedBy>
  <cp:revision>0</cp:revision>
  <dc:subject/>
  <dc:title>General</dc:title>
</cp:coreProperties>
</file>